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7F8-EA60-4010-9B55-1300ACC4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D5C6-A681-4E1C-95FD-E244C94B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C2EA-E76A-4FFB-8EF6-FABE168E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AC4-141A-41A2-97A6-85B412BB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C424-7B62-4505-B10B-298E7D77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7DCB-A914-4B68-B9A8-3401714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0FE-0B44-4CAB-987D-42006035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C324-230A-46E0-8041-774BD6E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829-7977-4E29-98B1-CA91882D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B98B-C616-4357-8070-A6EF4F9A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70D-F259-4A68-8207-8CCDE58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1AA-CB63-437F-B8A3-E87E4309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83F8-59CE-4658-916D-3739A97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8C43-E364-40D0-BAE1-5B4E5A5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433C-6CEF-4904-AF19-521D57B1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4C31-9D24-48BA-AF2C-4EF802C1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4A2A-BDD7-497F-BB62-C315615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153-0372-4CB6-ABA0-6EACA6E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D55-0D89-43DA-9EC8-2394DA08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69B-D3DD-4C8F-95FD-724254D2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1D4-3A27-4E63-B1C5-DB26E6DE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0EE-6ED7-4AD2-9D34-50C40869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FCE-9FD9-4764-9058-D92D62E8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8C7-0F81-4FEC-AE1A-297BCB8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92B-234C-4D27-8E87-1F0759B22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7DE5-AFCB-4820-A40C-79A924E0F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Osmosis and Diffus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aspects of the life of a cell depend on the fact that atoms and molecules have kinetic energy and are constantly in mo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kinetic energy causes molecules to bump into each other and move in new dir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result of this molecular motion is the process of diffu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048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Diffus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9907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random movement of molecules from an area of higher concentration of those molecules to an area of lower concent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– if we were to open a bottle of hydrogen sulfide (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, smells like rotten eggs) in one corner of a room, it would not be long before someone in the opposite corner would smell rotten eggs.  Eventually equilibrium will be reached, the concentration of 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will be approximately equal throughout the 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smos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94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pecial case of dif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m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 i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h to 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eans that water will move from an area of high water concentration to low water concentration through a selectively permeable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4:07:53Z</dcterms:created>
  <dc:creator>Clear Creek ISD</dc:creator>
  <dc:description/>
  <dc:language>en-US</dc:language>
  <cp:lastModifiedBy>Clear Creek ISD</cp:lastModifiedBy>
  <dcterms:modified xsi:type="dcterms:W3CDTF">2009-11-02T13:42:51Z</dcterms:modified>
  <cp:revision>6</cp:revision>
  <dc:subject/>
  <dc:title>Osmosis and Diffusion</dc:title>
</cp:coreProperties>
</file>